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32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18.png" ContentType="image/png"/>
  <Override PartName="/ppt/media/image17.jpeg" ContentType="image/jpeg"/>
  <Override PartName="/ppt/media/image16.jpeg" ContentType="image/jpeg"/>
  <Override PartName="/ppt/media/image5.wmf" ContentType="image/x-wmf"/>
  <Override PartName="/ppt/media/image39.png" ContentType="image/png"/>
  <Override PartName="/ppt/media/image22.jpeg" ContentType="image/jpeg"/>
  <Override PartName="/ppt/media/image28.png" ContentType="image/png"/>
  <Override PartName="/ppt/media/image8.jpeg" ContentType="image/jpeg"/>
  <Override PartName="/ppt/media/image38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37.png" ContentType="image/png"/>
  <Override PartName="/ppt/media/image13.png" ContentType="image/png"/>
  <Override PartName="/ppt/media/image34.png" ContentType="image/png"/>
  <Override PartName="/ppt/media/image12.jpeg" ContentType="image/jpeg"/>
  <Override PartName="/ppt/media/image33.png" ContentType="image/png"/>
  <Override PartName="/ppt/media/image35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27.jpeg" ContentType="image/jpeg"/>
  <Override PartName="/ppt/media/image4.wmf" ContentType="image/x-wmf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6093-4BA6-4F6B-A2AA-574F7D26643D}" type="slidenum">
              <a:rPr b="0" lang="fr-B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0" y="-7319880"/>
            <a:ext cx="1440" cy="160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6D11D-DD4C-4A23-A75E-0627C4A16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1905120"/>
            <a:ext cx="670572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094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F055F-24C9-404B-82DF-D4387716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240" y="1905120"/>
            <a:ext cx="670572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89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4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894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3022B-5FF6-47DF-BBEF-20801AE32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1905120"/>
            <a:ext cx="670572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7734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37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094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27734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4937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683F9-9D85-4B4F-9F56-2B8E84E26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A852-C19B-4FDA-8ABA-88A591878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1905120"/>
            <a:ext cx="670572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A9D7-D757-4864-96E8-BE5B5C04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1905120"/>
            <a:ext cx="670572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AFA4-976C-44B3-A2D5-970E2A5C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1905120"/>
            <a:ext cx="670572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894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92ED-0DE0-43FF-96B3-7B509175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905120"/>
            <a:ext cx="670572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DD92-A96E-487D-84E4-3C64A5DF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28240" y="1905120"/>
            <a:ext cx="6705720" cy="81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D252-5D3E-4426-BA42-4779BCE1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1905120"/>
            <a:ext cx="670572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894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554E-D82B-479E-B1E0-68706DCA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1905120"/>
            <a:ext cx="670572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B417F-AE38-4D15-A941-8EEC92A6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240" y="1905120"/>
            <a:ext cx="670572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89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894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40FB-ECC1-4E93-9906-735A70D2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240" y="1905120"/>
            <a:ext cx="670572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89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94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4279-B2ED-40B9-90E8-D10F8749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1905120"/>
            <a:ext cx="670572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094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7300C-FE30-4A52-8D1F-E7D5CBCF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1905120"/>
            <a:ext cx="670572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89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4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8894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B700-790E-4DDD-9175-52DE6A378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1905120"/>
            <a:ext cx="670572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27734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37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94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27734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4937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FA9A-B52F-44EC-96BE-AA4ABF378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905120"/>
            <a:ext cx="670572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4FF7F-FFC1-4AC3-8BC5-F1C261CC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1905120"/>
            <a:ext cx="670572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894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B9A0F-E85C-45DB-AFA3-A878D062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240" y="1905120"/>
            <a:ext cx="670572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F5F15-63FD-4CA8-A27F-C97AA23C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28240" y="1905120"/>
            <a:ext cx="6705720" cy="81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078A5-FCF8-4EF9-8487-CA38A09B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1905120"/>
            <a:ext cx="670572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894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1FB61-632A-479B-9F0E-446B2B18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1905120"/>
            <a:ext cx="670572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89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894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7B123-C352-4299-A867-D58FBF4F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1905120"/>
            <a:ext cx="670572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894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E4028-4346-4EF0-95CC-94194481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7034-97DA-4879-9555-F15DB5F71B5F}" type="datetime2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Tuesday, July 28, 20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9C50-0D85-4159-B449-BC042C9E8A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The Shadowserver Found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905120"/>
            <a:ext cx="670572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6E15-9DD3-47EB-9F25-EF89CE81A5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010280" y="1828800"/>
            <a:ext cx="1755720" cy="18288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hadowserver.org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image" Target="../media/image3.jpeg"/><Relationship Id="rId28" Type="http://schemas.openxmlformats.org/officeDocument/2006/relationships/oleObject" Target="../embeddings/oleObject1.bin"/><Relationship Id="rId29" Type="http://schemas.openxmlformats.org/officeDocument/2006/relationships/image" Target="../media/image5.wmf"/><Relationship Id="rId30" Type="http://schemas.openxmlformats.org/officeDocument/2006/relationships/image" Target="../media/image3.jpeg"/><Relationship Id="rId31" Type="http://schemas.openxmlformats.org/officeDocument/2006/relationships/image" Target="../media/image4.wmf"/><Relationship Id="rId3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5.wmf"/><Relationship Id="rId9" Type="http://schemas.openxmlformats.org/officeDocument/2006/relationships/image" Target="../media/image4.wmf"/><Relationship Id="rId10" Type="http://schemas.openxmlformats.org/officeDocument/2006/relationships/image" Target="../media/image3.jpeg"/><Relationship Id="rId11" Type="http://schemas.openxmlformats.org/officeDocument/2006/relationships/image" Target="../media/image4.wmf"/><Relationship Id="rId12" Type="http://schemas.openxmlformats.org/officeDocument/2006/relationships/image" Target="../media/image3.jpe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1965240"/>
            <a:ext cx="6705720" cy="15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Botnets and Botherders</a:t>
            </a:r>
            <a:br>
              <a:rPr sz="4400"/>
            </a:b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The Shadowserver Foundation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illar Leos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http://www.shadowserver.org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Botnets – Retest Infections</a:t>
            </a:r>
            <a:br>
              <a:rPr sz="1200"/>
            </a:br>
            <a:r>
              <a:rPr b="1" lang="en-US" sz="1200" spc="-1" strike="noStrike">
                <a:solidFill>
                  <a:srgbClr val="e5e5ff"/>
                </a:solidFill>
                <a:latin typeface="Arial"/>
              </a:rPr>
              <a:t>Monthy stats</a:t>
            </a:r>
            <a:endParaRPr b="1" lang="en-US" sz="1200" spc="-1" strike="noStrike">
              <a:solidFill>
                <a:srgbClr val="e5e5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04920" y="1219320"/>
          <a:ext cx="8534160" cy="5187960"/>
        </p:xfrm>
        <a:graphic>
          <a:graphicData uri="http://schemas.openxmlformats.org/drawingml/2006/table">
            <a:tbl>
              <a:tblPr/>
              <a:tblGrid>
                <a:gridCol w="2557440"/>
                <a:gridCol w="2089440"/>
                <a:gridCol w="1999800"/>
                <a:gridCol w="18874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ndor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ect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spersk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3605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890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9.17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-Secur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55156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6942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.96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tiVir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31521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890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.88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ma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2208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890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.27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32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18106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890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.01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-Prot6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63905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07326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7.12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Defender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93014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890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.39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Web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7907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30281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.15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G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88685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890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.11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-Pro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51763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890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.73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cAfe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38805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890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2.89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11013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90116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.98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xir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57635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890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.65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rusBuster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56941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890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.61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BA32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1706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890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.03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nd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670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890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.16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He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803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730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41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m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026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890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7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Bot - Detail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gob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phisticated – Complete – Modu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ootkit-like capabil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2P protoc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DB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ch simpler – sma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asy to ext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undreds of varia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gob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tandard and custom IRC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dos_maxthrea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am_aol_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ot_topiccm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DB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ghtweight IR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ecutes channel topic as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terprets other messages as comma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Bot - Detail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opag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gob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ssigns network ranges to dr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can.addnetrange &lt;IP_rang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can.start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DB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ase version has no scanning capabil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ariants now include scanning and propag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ery advanc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ttack Mechanis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gob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laborate set of self contained mod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ny types of DDoS attac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DB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 exploits in base ver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asily and rapidly expan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Botnets - Control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entraliz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sy to Deplo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w Lat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entral weak li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rone calls home via port 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seem like normal traff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Distribu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2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central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re com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re difficult to detect and taked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br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C/HTT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2P/HTT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Botnets - Usage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DDoS attac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CP or UDP flo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 spide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Spam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his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arvest email addr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Traffic Sniff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teresting clear-text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n help 'steal' other botn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Keylogging &amp; E-Fra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ypasses encrypted chann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of fil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Malware Propag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canning and infec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apid deployment of explo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Clickthrough Fra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ay-per-cli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nipulate polls, survey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Warez and Pirated Go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7164360" y="1412640"/>
            <a:ext cx="792360" cy="648000"/>
            <a:chOff x="7164360" y="1412640"/>
            <a:chExt cx="792360" cy="648000"/>
          </a:xfrm>
        </p:grpSpPr>
        <p:sp>
          <p:nvSpPr>
            <p:cNvPr id="198" name=""/>
            <p:cNvSpPr/>
            <p:nvPr/>
          </p:nvSpPr>
          <p:spPr>
            <a:xfrm flipV="1">
              <a:off x="7164360" y="1412640"/>
              <a:ext cx="576360" cy="4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7380360" y="1628640"/>
              <a:ext cx="576360" cy="432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667640" y="620640"/>
            <a:ext cx="925560" cy="1295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814080" y="10944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Tahoma"/>
              </a:rPr>
              <a:t>Webserver / n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Cloud"/>
          <p:cNvSpPr/>
          <p:nvPr/>
        </p:nvSpPr>
        <p:spPr>
          <a:xfrm>
            <a:off x="5218200" y="1773360"/>
            <a:ext cx="2449440" cy="1328760"/>
          </a:xfrm>
          <a:prstGeom prst="pie">
            <a:avLst/>
          </a:prstGeom>
          <a:solidFill>
            <a:srgbClr val="d3584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749600" y="2637000"/>
            <a:ext cx="3182760" cy="3238200"/>
            <a:chOff x="1749600" y="2637000"/>
            <a:chExt cx="3182760" cy="3238200"/>
          </a:xfrm>
        </p:grpSpPr>
        <p:pic>
          <p:nvPicPr>
            <p:cNvPr id="204" name="" descr=""/>
            <p:cNvPicPr/>
            <p:nvPr/>
          </p:nvPicPr>
          <p:blipFill>
            <a:blip r:embed="rId2"/>
            <a:stretch/>
          </p:blipFill>
          <p:spPr>
            <a:xfrm>
              <a:off x="1749600" y="2637000"/>
              <a:ext cx="5918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3"/>
            <a:stretch/>
          </p:blipFill>
          <p:spPr>
            <a:xfrm>
              <a:off x="1965240" y="2852640"/>
              <a:ext cx="59220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4"/>
            <a:stretch/>
          </p:blipFill>
          <p:spPr>
            <a:xfrm>
              <a:off x="2181240" y="3068640"/>
              <a:ext cx="59220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5"/>
            <a:stretch/>
          </p:blipFill>
          <p:spPr>
            <a:xfrm>
              <a:off x="2397240" y="3284640"/>
              <a:ext cx="59220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6"/>
            <a:stretch/>
          </p:blipFill>
          <p:spPr>
            <a:xfrm>
              <a:off x="2612880" y="3500280"/>
              <a:ext cx="5922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7"/>
            <a:stretch/>
          </p:blipFill>
          <p:spPr>
            <a:xfrm>
              <a:off x="2828880" y="3716280"/>
              <a:ext cx="59220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8"/>
            <a:stretch/>
          </p:blipFill>
          <p:spPr>
            <a:xfrm>
              <a:off x="3044880" y="3932280"/>
              <a:ext cx="59220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9"/>
            <a:stretch/>
          </p:blipFill>
          <p:spPr>
            <a:xfrm>
              <a:off x="3260880" y="4148280"/>
              <a:ext cx="5918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10"/>
            <a:stretch/>
          </p:blipFill>
          <p:spPr>
            <a:xfrm>
              <a:off x="3476520" y="4363920"/>
              <a:ext cx="59220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11"/>
            <a:stretch/>
          </p:blipFill>
          <p:spPr>
            <a:xfrm>
              <a:off x="3692520" y="4579920"/>
              <a:ext cx="59220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12"/>
            <a:stretch/>
          </p:blipFill>
          <p:spPr>
            <a:xfrm>
              <a:off x="3908520" y="4795920"/>
              <a:ext cx="59220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13"/>
            <a:stretch/>
          </p:blipFill>
          <p:spPr>
            <a:xfrm>
              <a:off x="4124160" y="5011560"/>
              <a:ext cx="59220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14"/>
            <a:stretch/>
          </p:blipFill>
          <p:spPr>
            <a:xfrm>
              <a:off x="4340160" y="5227560"/>
              <a:ext cx="592200" cy="64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7" name=""/>
          <p:cNvGrpSpPr/>
          <p:nvPr/>
        </p:nvGrpSpPr>
        <p:grpSpPr>
          <a:xfrm>
            <a:off x="1835280" y="2708280"/>
            <a:ext cx="2881080" cy="2786040"/>
            <a:chOff x="1835280" y="2708280"/>
            <a:chExt cx="2881080" cy="2786040"/>
          </a:xfrm>
        </p:grpSpPr>
        <p:pic>
          <p:nvPicPr>
            <p:cNvPr id="218" name="" descr=""/>
            <p:cNvPicPr/>
            <p:nvPr/>
          </p:nvPicPr>
          <p:blipFill>
            <a:blip r:embed="rId15"/>
            <a:stretch/>
          </p:blipFill>
          <p:spPr>
            <a:xfrm>
              <a:off x="2050920" y="2924280"/>
              <a:ext cx="289080" cy="193680"/>
            </a:xfrm>
            <a:prstGeom prst="rect">
              <a:avLst/>
            </a:prstGeom>
            <a:ln w="34920">
              <a:solidFill>
                <a:srgbClr val="ff0000"/>
              </a:solidFill>
              <a:miter/>
            </a:ln>
          </p:spPr>
        </p:pic>
        <p:grpSp>
          <p:nvGrpSpPr>
            <p:cNvPr id="219" name=""/>
            <p:cNvGrpSpPr/>
            <p:nvPr/>
          </p:nvGrpSpPr>
          <p:grpSpPr>
            <a:xfrm>
              <a:off x="1835280" y="2708280"/>
              <a:ext cx="2881080" cy="2786040"/>
              <a:chOff x="1835280" y="2708280"/>
              <a:chExt cx="2881080" cy="2786040"/>
            </a:xfrm>
          </p:grpSpPr>
          <p:pic>
            <p:nvPicPr>
              <p:cNvPr id="22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1835280" y="2708280"/>
                <a:ext cx="288720" cy="193680"/>
              </a:xfrm>
              <a:prstGeom prst="rect">
                <a:avLst/>
              </a:prstGeom>
              <a:ln w="34920">
                <a:solidFill>
                  <a:srgbClr val="ff0000"/>
                </a:solidFill>
                <a:miter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2266920" y="3140280"/>
                <a:ext cx="289080" cy="193680"/>
              </a:xfrm>
              <a:prstGeom prst="rect">
                <a:avLst/>
              </a:prstGeom>
              <a:ln w="34920">
                <a:solidFill>
                  <a:srgbClr val="ff0000"/>
                </a:solidFill>
                <a:miter/>
              </a:ln>
            </p:spPr>
          </p:pic>
          <p:pic>
            <p:nvPicPr>
              <p:cNvPr id="22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2482920" y="3355920"/>
                <a:ext cx="288720" cy="193680"/>
              </a:xfrm>
              <a:prstGeom prst="rect">
                <a:avLst/>
              </a:prstGeom>
              <a:ln w="34920">
                <a:solidFill>
                  <a:srgbClr val="ff0000"/>
                </a:solidFill>
                <a:miter/>
              </a:ln>
            </p:spPr>
          </p:pic>
          <p:pic>
            <p:nvPicPr>
              <p:cNvPr id="223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2698560" y="3571920"/>
                <a:ext cx="289080" cy="193680"/>
              </a:xfrm>
              <a:prstGeom prst="rect">
                <a:avLst/>
              </a:prstGeom>
              <a:ln w="34920">
                <a:solidFill>
                  <a:srgbClr val="ff0000"/>
                </a:solidFill>
                <a:miter/>
              </a:ln>
            </p:spPr>
          </p:pic>
          <p:pic>
            <p:nvPicPr>
              <p:cNvPr id="224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2914560" y="3787920"/>
                <a:ext cx="289080" cy="193680"/>
              </a:xfrm>
              <a:prstGeom prst="rect">
                <a:avLst/>
              </a:prstGeom>
              <a:ln w="34920">
                <a:solidFill>
                  <a:srgbClr val="ff0000"/>
                </a:solidFill>
                <a:miter/>
              </a:ln>
            </p:spPr>
          </p:pic>
          <p:pic>
            <p:nvPicPr>
              <p:cNvPr id="225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3130560" y="4003920"/>
                <a:ext cx="288720" cy="193680"/>
              </a:xfrm>
              <a:prstGeom prst="rect">
                <a:avLst/>
              </a:prstGeom>
              <a:ln w="34920">
                <a:solidFill>
                  <a:srgbClr val="ff0000"/>
                </a:solidFill>
                <a:miter/>
              </a:ln>
            </p:spPr>
          </p:pic>
          <p:pic>
            <p:nvPicPr>
              <p:cNvPr id="226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3346560" y="4219560"/>
                <a:ext cx="288720" cy="193680"/>
              </a:xfrm>
              <a:prstGeom prst="rect">
                <a:avLst/>
              </a:prstGeom>
              <a:ln w="34920">
                <a:solidFill>
                  <a:srgbClr val="ff0000"/>
                </a:solidFill>
                <a:miter/>
              </a:ln>
            </p:spPr>
          </p:pic>
          <p:pic>
            <p:nvPicPr>
              <p:cNvPr id="227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3562200" y="4435560"/>
                <a:ext cx="289080" cy="193680"/>
              </a:xfrm>
              <a:prstGeom prst="rect">
                <a:avLst/>
              </a:prstGeom>
              <a:ln w="34920">
                <a:solidFill>
                  <a:srgbClr val="ff0000"/>
                </a:solidFill>
                <a:miter/>
              </a:ln>
            </p:spPr>
          </p:pic>
          <p:pic>
            <p:nvPicPr>
              <p:cNvPr id="228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3778200" y="4651560"/>
                <a:ext cx="289080" cy="193680"/>
              </a:xfrm>
              <a:prstGeom prst="rect">
                <a:avLst/>
              </a:prstGeom>
              <a:ln w="34920">
                <a:solidFill>
                  <a:srgbClr val="ff0000"/>
                </a:solidFill>
                <a:miter/>
              </a:ln>
            </p:spPr>
          </p:pic>
          <p:pic>
            <p:nvPicPr>
              <p:cNvPr id="229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3994200" y="4867560"/>
                <a:ext cx="288720" cy="193680"/>
              </a:xfrm>
              <a:prstGeom prst="rect">
                <a:avLst/>
              </a:prstGeom>
              <a:ln w="34920">
                <a:solidFill>
                  <a:srgbClr val="ff0000"/>
                </a:solidFill>
                <a:miter/>
              </a:ln>
            </p:spPr>
          </p:pic>
          <p:pic>
            <p:nvPicPr>
              <p:cNvPr id="230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4209840" y="5083200"/>
                <a:ext cx="289080" cy="193680"/>
              </a:xfrm>
              <a:prstGeom prst="rect">
                <a:avLst/>
              </a:prstGeom>
              <a:ln w="34920">
                <a:solidFill>
                  <a:srgbClr val="ff0000"/>
                </a:solidFill>
                <a:miter/>
              </a:ln>
            </p:spPr>
          </p:pic>
          <p:pic>
            <p:nvPicPr>
              <p:cNvPr id="231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4427640" y="5300640"/>
                <a:ext cx="288720" cy="193680"/>
              </a:xfrm>
              <a:prstGeom prst="rect">
                <a:avLst/>
              </a:prstGeom>
              <a:ln w="34920">
                <a:solidFill>
                  <a:srgbClr val="ff0000"/>
                </a:solidFill>
                <a:miter/>
              </a:ln>
            </p:spPr>
          </p:pic>
        </p:grpSp>
      </p:grpSp>
      <p:grpSp>
        <p:nvGrpSpPr>
          <p:cNvPr id="232" name=""/>
          <p:cNvGrpSpPr/>
          <p:nvPr/>
        </p:nvGrpSpPr>
        <p:grpSpPr>
          <a:xfrm>
            <a:off x="345240" y="4797360"/>
            <a:ext cx="1509480" cy="1822320"/>
            <a:chOff x="345240" y="4797360"/>
            <a:chExt cx="1509480" cy="1822320"/>
          </a:xfrm>
        </p:grpSpPr>
        <p:graphicFrame>
          <p:nvGraphicFramePr>
            <p:cNvPr id="233" name=""/>
            <p:cNvGraphicFramePr/>
            <p:nvPr/>
          </p:nvGraphicFramePr>
          <p:xfrm>
            <a:off x="539640" y="4797360"/>
            <a:ext cx="927360" cy="1297080"/>
          </p:xfrm>
          <a:graphic>
            <a:graphicData uri="http://schemas.openxmlformats.org/presentationml/2006/ole">
              <p:oleObj r:id="rId28" spid="">
                <p:embed/>
                <p:pic>
                  <p:nvPicPr>
                    <p:cNvPr id="234" name="" descr=""/>
                    <p:cNvPicPr/>
                    <p:nvPr/>
                  </p:nvPicPr>
                  <p:blipFill>
                    <a:blip r:embed="rId29"/>
                    <a:stretch/>
                  </p:blipFill>
                  <p:spPr>
                    <a:xfrm>
                      <a:off x="539640" y="4797360"/>
                      <a:ext cx="927360" cy="129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5" name=""/>
            <p:cNvSpPr/>
            <p:nvPr/>
          </p:nvSpPr>
          <p:spPr>
            <a:xfrm>
              <a:off x="345240" y="6251400"/>
              <a:ext cx="15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ffffff"/>
                  </a:solidFill>
                  <a:latin typeface="Tahoma"/>
                </a:rPr>
                <a:t>Chat Serv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24000" y="404640"/>
            <a:ext cx="1871640" cy="2187720"/>
            <a:chOff x="324000" y="404640"/>
            <a:chExt cx="1871640" cy="2187720"/>
          </a:xfrm>
        </p:grpSpPr>
        <p:pic>
          <p:nvPicPr>
            <p:cNvPr id="237" name="" descr=""/>
            <p:cNvPicPr/>
            <p:nvPr/>
          </p:nvPicPr>
          <p:blipFill>
            <a:blip r:embed="rId30"/>
            <a:stretch/>
          </p:blipFill>
          <p:spPr>
            <a:xfrm>
              <a:off x="324000" y="404640"/>
              <a:ext cx="1871640" cy="12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31"/>
            <a:stretch/>
          </p:blipFill>
          <p:spPr>
            <a:xfrm>
              <a:off x="324000" y="1484280"/>
              <a:ext cx="101268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1093680" y="1716120"/>
              <a:ext cx="99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ffffff"/>
                  </a:solidFill>
                  <a:latin typeface="Tahoma"/>
                </a:rPr>
                <a:t>Hack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1258920" y="3357360"/>
            <a:ext cx="2951280" cy="2375280"/>
            <a:chOff x="1258920" y="3357360"/>
            <a:chExt cx="2951280" cy="2375280"/>
          </a:xfrm>
        </p:grpSpPr>
        <p:sp>
          <p:nvSpPr>
            <p:cNvPr id="241" name=""/>
            <p:cNvSpPr/>
            <p:nvPr/>
          </p:nvSpPr>
          <p:spPr>
            <a:xfrm flipV="1">
              <a:off x="1258920" y="3357360"/>
              <a:ext cx="576360" cy="143820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1332000" y="3573360"/>
              <a:ext cx="718920" cy="122400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1403280" y="3789000"/>
              <a:ext cx="863640" cy="107964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1476360" y="4005000"/>
              <a:ext cx="1006560" cy="93636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1476360" y="4220640"/>
              <a:ext cx="1222560" cy="79236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1476360" y="4436640"/>
              <a:ext cx="1438200" cy="64764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1547640" y="4653000"/>
              <a:ext cx="1582920" cy="50472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1547640" y="4868640"/>
              <a:ext cx="1798920" cy="36036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1619280" y="5084640"/>
              <a:ext cx="1942920" cy="21600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1619280" y="5300280"/>
              <a:ext cx="2158920" cy="7308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619280" y="5516640"/>
              <a:ext cx="2374920" cy="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19280" y="5661000"/>
              <a:ext cx="2590920" cy="7164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2340000" y="1511280"/>
            <a:ext cx="5545080" cy="3716280"/>
            <a:chOff x="2340000" y="1511280"/>
            <a:chExt cx="5545080" cy="3716280"/>
          </a:xfrm>
        </p:grpSpPr>
        <p:sp>
          <p:nvSpPr>
            <p:cNvPr id="254" name=""/>
            <p:cNvSpPr/>
            <p:nvPr/>
          </p:nvSpPr>
          <p:spPr>
            <a:xfrm>
              <a:off x="2340000" y="1576440"/>
              <a:ext cx="5359320" cy="1058760"/>
            </a:xfrm>
            <a:custGeom>
              <a:avLst/>
              <a:gdLst/>
              <a:ahLst/>
              <a:rect l="l" t="t" r="r" b="b"/>
              <a:pathLst>
                <a:path w="3376" h="667">
                  <a:moveTo>
                    <a:pt x="0" y="667"/>
                  </a:moveTo>
                  <a:cubicBezTo>
                    <a:pt x="369" y="607"/>
                    <a:pt x="1653" y="420"/>
                    <a:pt x="2216" y="309"/>
                  </a:cubicBezTo>
                  <a:cubicBezTo>
                    <a:pt x="2779" y="198"/>
                    <a:pt x="3134" y="65"/>
                    <a:pt x="3376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56000" y="1550880"/>
              <a:ext cx="5222880" cy="1301760"/>
            </a:xfrm>
            <a:custGeom>
              <a:avLst/>
              <a:gdLst/>
              <a:ahLst/>
              <a:rect l="l" t="t" r="r" b="b"/>
              <a:pathLst>
                <a:path w="3290" h="820">
                  <a:moveTo>
                    <a:pt x="0" y="820"/>
                  </a:moveTo>
                  <a:cubicBezTo>
                    <a:pt x="298" y="763"/>
                    <a:pt x="1240" y="613"/>
                    <a:pt x="1788" y="476"/>
                  </a:cubicBezTo>
                  <a:cubicBezTo>
                    <a:pt x="2336" y="339"/>
                    <a:pt x="2977" y="99"/>
                    <a:pt x="3290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71640" y="1523880"/>
              <a:ext cx="5073840" cy="1543320"/>
            </a:xfrm>
            <a:custGeom>
              <a:avLst/>
              <a:gdLst/>
              <a:ahLst/>
              <a:rect l="l" t="t" r="r" b="b"/>
              <a:pathLst>
                <a:path w="3196" h="972">
                  <a:moveTo>
                    <a:pt x="0" y="972"/>
                  </a:moveTo>
                  <a:cubicBezTo>
                    <a:pt x="331" y="886"/>
                    <a:pt x="1452" y="621"/>
                    <a:pt x="1985" y="459"/>
                  </a:cubicBezTo>
                  <a:cubicBezTo>
                    <a:pt x="2518" y="297"/>
                    <a:pt x="2944" y="96"/>
                    <a:pt x="3196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987640" y="1511280"/>
              <a:ext cx="4857840" cy="1771560"/>
            </a:xfrm>
            <a:custGeom>
              <a:avLst/>
              <a:gdLst/>
              <a:ahLst/>
              <a:rect l="l" t="t" r="r" b="b"/>
              <a:pathLst>
                <a:path w="3060" h="1116">
                  <a:moveTo>
                    <a:pt x="0" y="1116"/>
                  </a:moveTo>
                  <a:cubicBezTo>
                    <a:pt x="276" y="1032"/>
                    <a:pt x="1147" y="795"/>
                    <a:pt x="1657" y="609"/>
                  </a:cubicBezTo>
                  <a:cubicBezTo>
                    <a:pt x="2167" y="423"/>
                    <a:pt x="2768" y="127"/>
                    <a:pt x="3060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203640" y="1523880"/>
              <a:ext cx="4589280" cy="1974960"/>
            </a:xfrm>
            <a:custGeom>
              <a:avLst/>
              <a:gdLst/>
              <a:ahLst/>
              <a:rect l="l" t="t" r="r" b="b"/>
              <a:pathLst>
                <a:path w="2891" h="1244">
                  <a:moveTo>
                    <a:pt x="0" y="1244"/>
                  </a:moveTo>
                  <a:cubicBezTo>
                    <a:pt x="242" y="1158"/>
                    <a:pt x="973" y="933"/>
                    <a:pt x="1455" y="726"/>
                  </a:cubicBezTo>
                  <a:cubicBezTo>
                    <a:pt x="1937" y="519"/>
                    <a:pt x="2592" y="151"/>
                    <a:pt x="2891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19640" y="1511280"/>
              <a:ext cx="4413240" cy="2203560"/>
            </a:xfrm>
            <a:custGeom>
              <a:avLst/>
              <a:gdLst/>
              <a:ahLst/>
              <a:rect l="l" t="t" r="r" b="b"/>
              <a:pathLst>
                <a:path w="2780" h="1388">
                  <a:moveTo>
                    <a:pt x="0" y="1388"/>
                  </a:moveTo>
                  <a:cubicBezTo>
                    <a:pt x="221" y="1293"/>
                    <a:pt x="864" y="1049"/>
                    <a:pt x="1327" y="818"/>
                  </a:cubicBezTo>
                  <a:cubicBezTo>
                    <a:pt x="1790" y="587"/>
                    <a:pt x="2477" y="170"/>
                    <a:pt x="2780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635280" y="1628640"/>
              <a:ext cx="4176720" cy="2301840"/>
            </a:xfrm>
            <a:custGeom>
              <a:avLst/>
              <a:gdLst/>
              <a:ahLst/>
              <a:rect l="l" t="t" r="r" b="b"/>
              <a:pathLst>
                <a:path w="2631" h="1450">
                  <a:moveTo>
                    <a:pt x="0" y="1450"/>
                  </a:moveTo>
                  <a:cubicBezTo>
                    <a:pt x="215" y="1338"/>
                    <a:pt x="853" y="1019"/>
                    <a:pt x="1291" y="777"/>
                  </a:cubicBezTo>
                  <a:cubicBezTo>
                    <a:pt x="1729" y="535"/>
                    <a:pt x="2352" y="162"/>
                    <a:pt x="2631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3851280" y="1628640"/>
              <a:ext cx="3960720" cy="25178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7280" y="1550880"/>
              <a:ext cx="3684600" cy="2813040"/>
            </a:xfrm>
            <a:custGeom>
              <a:avLst/>
              <a:gdLst/>
              <a:ahLst/>
              <a:rect l="l" t="t" r="r" b="b"/>
              <a:pathLst>
                <a:path w="2321" h="1772">
                  <a:moveTo>
                    <a:pt x="0" y="1772"/>
                  </a:moveTo>
                  <a:cubicBezTo>
                    <a:pt x="178" y="1634"/>
                    <a:pt x="682" y="1238"/>
                    <a:pt x="1069" y="943"/>
                  </a:cubicBezTo>
                  <a:cubicBezTo>
                    <a:pt x="1456" y="648"/>
                    <a:pt x="2060" y="197"/>
                    <a:pt x="2321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82920" y="1628640"/>
              <a:ext cx="3529080" cy="2949840"/>
            </a:xfrm>
            <a:custGeom>
              <a:avLst/>
              <a:gdLst/>
              <a:ahLst/>
              <a:rect l="l" t="t" r="r" b="b"/>
              <a:pathLst>
                <a:path w="2223" h="1858">
                  <a:moveTo>
                    <a:pt x="0" y="1858"/>
                  </a:moveTo>
                  <a:cubicBezTo>
                    <a:pt x="170" y="1699"/>
                    <a:pt x="647" y="1212"/>
                    <a:pt x="1017" y="902"/>
                  </a:cubicBezTo>
                  <a:cubicBezTo>
                    <a:pt x="1387" y="592"/>
                    <a:pt x="1972" y="188"/>
                    <a:pt x="2223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98920" y="1628640"/>
              <a:ext cx="3241800" cy="3165480"/>
            </a:xfrm>
            <a:custGeom>
              <a:avLst/>
              <a:gdLst/>
              <a:ahLst/>
              <a:rect l="l" t="t" r="r" b="b"/>
              <a:pathLst>
                <a:path w="2042" h="1994">
                  <a:moveTo>
                    <a:pt x="0" y="1994"/>
                  </a:moveTo>
                  <a:cubicBezTo>
                    <a:pt x="154" y="1826"/>
                    <a:pt x="583" y="1318"/>
                    <a:pt x="923" y="986"/>
                  </a:cubicBezTo>
                  <a:cubicBezTo>
                    <a:pt x="1263" y="654"/>
                    <a:pt x="1809" y="205"/>
                    <a:pt x="2042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14920" y="1701720"/>
              <a:ext cx="3025800" cy="3309840"/>
            </a:xfrm>
            <a:custGeom>
              <a:avLst/>
              <a:gdLst/>
              <a:ahLst/>
              <a:rect l="l" t="t" r="r" b="b"/>
              <a:pathLst>
                <a:path w="1906" h="2085">
                  <a:moveTo>
                    <a:pt x="0" y="2085"/>
                  </a:moveTo>
                  <a:cubicBezTo>
                    <a:pt x="131" y="1911"/>
                    <a:pt x="470" y="1387"/>
                    <a:pt x="787" y="1040"/>
                  </a:cubicBezTo>
                  <a:cubicBezTo>
                    <a:pt x="1104" y="693"/>
                    <a:pt x="1673" y="217"/>
                    <a:pt x="1906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930920" y="1558800"/>
              <a:ext cx="2954160" cy="3668760"/>
            </a:xfrm>
            <a:custGeom>
              <a:avLst/>
              <a:gdLst/>
              <a:ahLst/>
              <a:rect l="l" t="t" r="r" b="b"/>
              <a:pathLst>
                <a:path w="1861" h="2311">
                  <a:moveTo>
                    <a:pt x="0" y="2311"/>
                  </a:moveTo>
                  <a:cubicBezTo>
                    <a:pt x="108" y="2139"/>
                    <a:pt x="341" y="1665"/>
                    <a:pt x="651" y="1280"/>
                  </a:cubicBezTo>
                  <a:cubicBezTo>
                    <a:pt x="961" y="895"/>
                    <a:pt x="1609" y="267"/>
                    <a:pt x="1861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5724360" y="3141720"/>
            <a:ext cx="31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00"/>
                </a:solidFill>
                <a:latin typeface="Tahoma"/>
              </a:rPr>
              <a:t>Access line block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773760" y="520560"/>
            <a:ext cx="27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ffff00"/>
                </a:solidFill>
                <a:latin typeface="Tahoma"/>
              </a:rPr>
              <a:t>Computer</a:t>
            </a:r>
            <a:br>
              <a:rPr sz="3600"/>
            </a:br>
            <a:r>
              <a:rPr b="1" lang="nl-BE" sz="3600" spc="-1" strike="noStrike">
                <a:solidFill>
                  <a:srgbClr val="ffff00"/>
                </a:solidFill>
                <a:latin typeface="Tahoma"/>
              </a:rPr>
              <a:t>   Cras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95640" y="6019920"/>
            <a:ext cx="69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00"/>
                </a:solidFill>
                <a:latin typeface="Tahoma"/>
              </a:rPr>
              <a:t>Botnet attack on a webserver / nod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258920" y="3351240"/>
            <a:ext cx="2951280" cy="2757240"/>
            <a:chOff x="1258920" y="3351240"/>
            <a:chExt cx="2951280" cy="2757240"/>
          </a:xfrm>
        </p:grpSpPr>
        <p:grpSp>
          <p:nvGrpSpPr>
            <p:cNvPr id="271" name=""/>
            <p:cNvGrpSpPr/>
            <p:nvPr/>
          </p:nvGrpSpPr>
          <p:grpSpPr>
            <a:xfrm>
              <a:off x="1258920" y="3351240"/>
              <a:ext cx="2951280" cy="2374200"/>
              <a:chOff x="1258920" y="3351240"/>
              <a:chExt cx="2951280" cy="2374200"/>
            </a:xfrm>
          </p:grpSpPr>
          <p:sp>
            <p:nvSpPr>
              <p:cNvPr id="272" name=""/>
              <p:cNvSpPr/>
              <p:nvPr/>
            </p:nvSpPr>
            <p:spPr>
              <a:xfrm flipV="1">
                <a:off x="1258920" y="3351240"/>
                <a:ext cx="576360" cy="14378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1332000" y="3566160"/>
                <a:ext cx="718920" cy="12236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1403280" y="3782520"/>
                <a:ext cx="863640" cy="1079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1476360" y="3998520"/>
                <a:ext cx="1006560" cy="9360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1476360" y="4214160"/>
                <a:ext cx="1222560" cy="7920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1476360" y="4430160"/>
                <a:ext cx="1438200" cy="647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1547640" y="4645800"/>
                <a:ext cx="1582920" cy="5043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1547640" y="4862160"/>
                <a:ext cx="1798920" cy="3600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>
                <a:off x="1619280" y="5077440"/>
                <a:ext cx="1942920" cy="2156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1619280" y="5293800"/>
                <a:ext cx="2158920" cy="7272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619280" y="5509800"/>
                <a:ext cx="237492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619280" y="5654160"/>
                <a:ext cx="2590920" cy="71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head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2097360" y="5740200"/>
              <a:ext cx="1706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ffffff"/>
                  </a:solidFill>
                  <a:latin typeface="Tahoma"/>
                </a:rPr>
                <a:t>My IP is x.y.z.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900000" y="2622600"/>
            <a:ext cx="699840" cy="2085840"/>
            <a:chOff x="900000" y="2622600"/>
            <a:chExt cx="699840" cy="2085840"/>
          </a:xfrm>
        </p:grpSpPr>
        <p:sp>
          <p:nvSpPr>
            <p:cNvPr id="286" name=""/>
            <p:cNvSpPr/>
            <p:nvPr/>
          </p:nvSpPr>
          <p:spPr>
            <a:xfrm>
              <a:off x="900000" y="2622600"/>
              <a:ext cx="216000" cy="208584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981720" y="3430440"/>
              <a:ext cx="61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ffffff"/>
                  </a:solidFill>
                  <a:latin typeface="Tahoma"/>
                </a:rPr>
                <a:t>Inf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159840" y="2638440"/>
            <a:ext cx="811800" cy="2085840"/>
            <a:chOff x="159840" y="2638440"/>
            <a:chExt cx="811800" cy="2085840"/>
          </a:xfrm>
        </p:grpSpPr>
        <p:sp>
          <p:nvSpPr>
            <p:cNvPr id="289" name=""/>
            <p:cNvSpPr/>
            <p:nvPr/>
          </p:nvSpPr>
          <p:spPr>
            <a:xfrm>
              <a:off x="755640" y="2638440"/>
              <a:ext cx="216000" cy="208584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59840" y="3732120"/>
              <a:ext cx="67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ffffff"/>
                  </a:solidFill>
                  <a:latin typeface="Tahoma"/>
                </a:rPr>
                <a:t>Cm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" nodeType="afterEffect" fill="hold" presetClass="entr" presetID="2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Botnets – Usage (DDoS)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457200" y="2212920"/>
            <a:ext cx="4038480" cy="33004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4648320" y="2212920"/>
            <a:ext cx="403848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Botnets – Herder Defense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of Dynamic D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rt TTL in DNS Records (Fastflu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nel and Server Chan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ing directed to another C&amp;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a HTTP down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fuscate drone hostna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cryption of intra-channel commun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ified IRC ser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ti-Sandbox mechanisms in bina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Botnets - Motivation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00"/>
                </a:solidFill>
                <a:latin typeface="Arial"/>
              </a:rPr>
              <a:t>Script Kiddies stay away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r-profit indu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00"/>
                </a:solidFill>
                <a:latin typeface="Arial"/>
              </a:rPr>
              <a:t>Becoming an Indu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derground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various r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00"/>
                </a:solidFill>
                <a:latin typeface="Arial"/>
              </a:rPr>
              <a:t>Targeted Atta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phis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dustrial Espion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te Sponso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Botnets – Organizational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00"/>
                </a:solidFill>
                <a:latin typeface="Arial"/>
              </a:rPr>
              <a:t>Dedicated net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RC, P2P, Web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00"/>
                </a:solidFill>
                <a:latin typeface="Arial"/>
              </a:rPr>
              <a:t>Various roles and hierarch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dverti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sumer Report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ffic in a variety of goods and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00"/>
                </a:solidFill>
                <a:latin typeface="Arial"/>
              </a:rPr>
              <a:t>Public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o presumption of priv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lationsh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n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dowserver</a:t>
            </a: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Botnets IR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Botnets - Relationship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010280" cy="52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Botnets - Relationship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85800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240" y="1905120"/>
            <a:ext cx="670572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etection, Tracking, and Closure?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hadowserver Foundation process and method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423360"/>
            <a:ext cx="82342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Arial"/>
              </a:rPr>
              <a:t>Shadowserver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342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cc00"/>
                </a:solidFill>
                <a:latin typeface="Arial"/>
              </a:rPr>
              <a:t>The Shadowserver Foun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n all volunteer watchdog group of security professionals that gather, track, and report on malware, botnet activity, and electronic frau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cc00"/>
                </a:solidFill>
                <a:latin typeface="Arial"/>
              </a:rPr>
              <a:t>It is the mission of the Shadowserver Foundation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improve the security of the Internet by raising awareness of the presence of compromised servers, malicious attackers, and the spread of malwa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hadowserver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851364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423360"/>
            <a:ext cx="82342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Arial"/>
              </a:rPr>
              <a:t>Botnets – Detection &amp; Capture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Honeypo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uto-subm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ploy on wide variety of IP sp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&amp; Client ba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Honeytoke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mail – IM - IR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amtra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nk sp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cial networ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u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50840" y="1599840"/>
            <a:ext cx="40402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Server ba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mulate vulnerable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ploy and wa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pent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Client ba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eats are chan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itiate connections to Inter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mulate a us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ed with known malicious UR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oneyC &amp; Capture-HP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423360"/>
            <a:ext cx="82342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Arial"/>
              </a:rPr>
              <a:t>Botnets - Nepenth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781680" cy="50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423360"/>
            <a:ext cx="82342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Arial"/>
              </a:rPr>
              <a:t>Botnets - Sandboxing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3836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Man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tat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ynam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Autom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lass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The Bas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&amp;C address – Port – Chann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ick &amp; Id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97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asswo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4419720" y="1371600"/>
            <a:ext cx="3902040" cy="449568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5943600" y="4038480"/>
            <a:ext cx="2859120" cy="2187720"/>
          </a:xfrm>
          <a:prstGeom prst="rect">
            <a:avLst/>
          </a:prstGeom>
          <a:ln w="9360">
            <a:solidFill>
              <a:srgbClr val="000514"/>
            </a:solidFill>
            <a:round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423360"/>
            <a:ext cx="82342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Arial"/>
              </a:rPr>
              <a:t>Botnets - Tracking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400800" cy="506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423360"/>
            <a:ext cx="82342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Arial"/>
              </a:rPr>
              <a:t>Botnets - Tracking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534520" cy="497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1905120"/>
            <a:ext cx="670572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Botnets – The Good, Bad, and Ugly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look into the methods, usage, control, and motivations of botnet herde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423360"/>
            <a:ext cx="82342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e5e5ff"/>
                </a:solidFill>
                <a:latin typeface="Arial"/>
              </a:rPr>
              <a:t>Shadowserver Revisited – Reports</a:t>
            </a:r>
            <a:br>
              <a:rPr sz="3600"/>
            </a:b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~500 Custom reports produced daily</a:t>
            </a:r>
            <a:endParaRPr b="1" lang="en-US" sz="1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172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lnSpc>
                <a:spcPct val="95000"/>
              </a:lnSpc>
              <a:spcBef>
                <a:spcPts val="437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Report 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5000"/>
              </a:lnSpc>
              <a:spcBef>
                <a:spcPts val="437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Do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5000"/>
              </a:lnSpc>
              <a:spcBef>
                <a:spcPts val="437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&amp;C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5000"/>
              </a:lnSpc>
              <a:spcBef>
                <a:spcPts val="437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romised H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5000"/>
              </a:lnSpc>
              <a:spcBef>
                <a:spcPts val="437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lick-Through Fra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5000"/>
              </a:lnSpc>
              <a:spcBef>
                <a:spcPts val="437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r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5000"/>
              </a:lnSpc>
              <a:spcBef>
                <a:spcPts val="437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5000"/>
              </a:lnSpc>
              <a:spcBef>
                <a:spcPts val="437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RL Re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0">
              <a:lnSpc>
                <a:spcPct val="95000"/>
              </a:lnSpc>
              <a:spcBef>
                <a:spcPts val="437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Fil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5000"/>
              </a:lnSpc>
              <a:spcBef>
                <a:spcPts val="437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S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5000"/>
              </a:lnSpc>
              <a:spcBef>
                <a:spcPts val="437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ID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5000"/>
              </a:lnSpc>
              <a:spcBef>
                <a:spcPts val="437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unt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50840" y="1599840"/>
            <a:ext cx="40402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Recipi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~30 CER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~100 ASN own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leeding Edge Sn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5 Public IRC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3 DNS Registr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 Commercial Vend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 private mailing lis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7 International LEO’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3 US Federal LEO’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5 International government critical infrastructure grou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4A0DD-4A32-4978-A3A8-3703FA76097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368781-151A-4E72-98C9-A10BEC24766F}" type="datetime2">
              <a:rPr lang="en-US"/>
              <a:t>Tuesday, July 28, 20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423360"/>
            <a:ext cx="82342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e5e5ff"/>
                </a:solidFill>
                <a:latin typeface="Arial"/>
              </a:rPr>
              <a:t>Shadowserver Revisited – DDoS Reports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604800" y="1771560"/>
            <a:ext cx="7934400" cy="4181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D6A02-3FCF-43AE-B262-9A37AF816186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98A07D-4400-4010-A53A-06A59A164E8F}" type="datetime2">
              <a:rPr lang="en-US"/>
              <a:t>Tuesday, July 28, 20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97000"/>
            <a:ext cx="82328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Arial"/>
              </a:rPr>
              <a:t>Two Minut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686800" cy="443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159D7-7F9C-49BC-AC12-DBB10C88A90C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192D4A-DB5B-41FC-BA2C-646E0C9ABA1F}" type="datetime2">
              <a:rPr lang="en-US"/>
              <a:t>Tuesday, July 28, 2026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28240" y="1905120"/>
            <a:ext cx="670572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Botnets – Real Life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case study of a group of bad actors on their actions and method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Botnets – Real Life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2057400" cy="160020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6019920" y="1676520"/>
            <a:ext cx="1819080" cy="169524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3505320" y="1828800"/>
            <a:ext cx="1885680" cy="140004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4"/>
          <a:stretch/>
        </p:blipFill>
        <p:spPr>
          <a:xfrm>
            <a:off x="685800" y="3733920"/>
            <a:ext cx="2209680" cy="20955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5"/>
          <a:stretch/>
        </p:blipFill>
        <p:spPr>
          <a:xfrm>
            <a:off x="3429000" y="3429000"/>
            <a:ext cx="2066760" cy="19432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6"/>
          <a:stretch/>
        </p:blipFill>
        <p:spPr>
          <a:xfrm>
            <a:off x="6095880" y="3657600"/>
            <a:ext cx="237168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Botnets – Real Life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8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inary captured by honeypot system on 2006-08-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DBot variant using #rap@tamer.pikolata.net:61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d 32 different hosts (IPs) as C&amp;C servers in less than 60 da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d between servers at least 40 ti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 least six other control channels known to use this host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304920" y="4191120"/>
            <a:ext cx="853416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Real Life – The Malware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5638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8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C&amp;C spread 51 unique binaries in the two mon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wo-thirds were SDBot variants, others are RBot, Zapchast, Parite.B, Kirsun,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6400800" y="1371600"/>
            <a:ext cx="1657440" cy="24033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4191120" y="4648320"/>
            <a:ext cx="3085920" cy="120492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5943600" y="2666880"/>
            <a:ext cx="2637000" cy="22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Real Life - Speading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ing standard spreading mechanisms (asn, dcom, lsass,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04920" y="3124080"/>
            <a:ext cx="8462880" cy="122868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380880" y="4495680"/>
            <a:ext cx="8345520" cy="15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Real Life - Usage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8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unning DDOS (targets were usually servers being run by 'enemy' group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eylogging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 used for ID theft and efrau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228600" y="2743200"/>
            <a:ext cx="8610480" cy="7858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228600" y="4495680"/>
            <a:ext cx="845820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Real Life – More Usage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8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lick-fraud (Money-making. Accounts could be used to track back the herd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lone flooding (Often advertising new underground servers and carding channe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152280" y="2819520"/>
            <a:ext cx="8686800" cy="80640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304920" y="5181480"/>
            <a:ext cx="848340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efinition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Bot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 distributed network of compromised computers controlled by a malicious user via a command &amp; control mechanis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C&amp;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mand &amp; Control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 computer or a network of computers, controlled by a herder, that sends commands to the botne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Drone or Zomb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 compromised computer that receives commands via the C&amp;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Bot He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dividual who owns or controls the botne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Arial"/>
              </a:rPr>
              <a:t>IR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 protocol designed for real time chat communication based on client-server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Real Life - Cooperation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8000"/>
              </a:lnSpc>
              <a:spcBef>
                <a:spcPts val="499"/>
              </a:spcBef>
              <a:spcAft>
                <a:spcPts val="726"/>
              </a:spcAft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operative scanning of network ran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spcBef>
                <a:spcPts val="499"/>
              </a:spcBef>
              <a:spcAft>
                <a:spcPts val="726"/>
              </a:spcAft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wnloading/Installing binaries for a 'friend' or in exchange for somet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spcBef>
                <a:spcPts val="499"/>
              </a:spcBef>
              <a:spcAft>
                <a:spcPts val="726"/>
              </a:spcAft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lping out with bots to ddos targets that can handle a high lo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spcBef>
                <a:spcPts val="499"/>
              </a:spcBef>
              <a:spcAft>
                <a:spcPts val="726"/>
              </a:spcAft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haring/trading private IRC ser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spcBef>
                <a:spcPts val="499"/>
              </a:spcBef>
              <a:spcAft>
                <a:spcPts val="726"/>
              </a:spcAft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haring/trading bot sources and bina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380880" y="4464000"/>
            <a:ext cx="8534520" cy="6573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380880" y="5257800"/>
            <a:ext cx="853452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Real Life - ChanOp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2057400" cy="16002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6715080" y="1447920"/>
            <a:ext cx="1819440" cy="169524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3676680" y="1649520"/>
            <a:ext cx="1886040" cy="14000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457200" y="3657600"/>
            <a:ext cx="22096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KaH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DOS, Clone floo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: Tur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alname: Mehm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733920" y="3581280"/>
            <a:ext cx="1752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mr`b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DOS, Sniff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781680" y="3581280"/>
            <a:ext cx="18288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Mr|Yl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lone flooding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x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Real Life – More ChanOp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341280" y="1523880"/>
            <a:ext cx="2209680" cy="209556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3505320" y="1600200"/>
            <a:ext cx="2066760" cy="194328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6400800" y="1600200"/>
            <a:ext cx="2371680" cy="19242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457200" y="3886200"/>
            <a:ext cx="2133720" cy="10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Sh3ll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DOS, Sniffing, Clone floo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659040" y="3886200"/>
            <a:ext cx="1930320" cy="13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Bi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: Koso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086600" y="3886200"/>
            <a:ext cx="1676520" cy="13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gu3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DOS, Proxies, Clone floo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Real Life - Summary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8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everal domain names were remo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everal servers shut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 real affect on the operations of this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240" y="1905120"/>
            <a:ext cx="670572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Future Trends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is all this going?  What do we have to look forward t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uture Trends - Malware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ootk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tiVirus Det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cripting Wo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SS Hij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ient-side Explo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scalation of Privile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ckers and Protec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mida, private pack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uture Trends - Botnet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 – P2P – VOIP – 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gache, Skype and Storm w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ry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vert channels via TCP and ICMP tunne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er and Distributed Botn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ributed DNS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er Protection of the Bot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ustry Bankro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TTP based C&amp;C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ack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20680"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simple and l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20680"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20680"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st known version – 1.9.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64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ttp://asert.arbornetworks.com/2007/10/blackenergy-ddos-bot-analysis-avail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TTP based C&amp;C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Arial"/>
              </a:rPr>
              <a:t>Zun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Sophistic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Arial"/>
              </a:rPr>
              <a:t>SP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rial"/>
              </a:rPr>
              <a:t>http://pandalabs.pandasecurity.com/archive/Zunker.asp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TTP based C&amp;C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P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CEP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acu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Botnets - Spreading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Sca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ploiting vulnerab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ight of the Living Dead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Email and IM lin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ill a major v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Drive-by Downlo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b redir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cial networking s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2P sha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3434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hadowserver and YOU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operation and Collab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hare experiences and discove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28240" y="1905120"/>
            <a:ext cx="670572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Questions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203640" y="333360"/>
            <a:ext cx="792000" cy="531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227640" y="1341360"/>
            <a:ext cx="792360" cy="531720"/>
          </a:xfrm>
          <a:prstGeom prst="rect">
            <a:avLst/>
          </a:prstGeom>
          <a:ln w="0">
            <a:noFill/>
          </a:ln>
        </p:spPr>
      </p:pic>
      <p:sp>
        <p:nvSpPr>
          <p:cNvPr id="122" name="Cloud"/>
          <p:cNvSpPr/>
          <p:nvPr/>
        </p:nvSpPr>
        <p:spPr>
          <a:xfrm>
            <a:off x="1474920" y="2589120"/>
            <a:ext cx="3671640" cy="1992240"/>
          </a:xfrm>
          <a:prstGeom prst="pie">
            <a:avLst/>
          </a:prstGeom>
          <a:solidFill>
            <a:srgbClr val="d3584b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nl-BE" sz="28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828720" y="4173480"/>
            <a:ext cx="592200" cy="647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617840" y="5180040"/>
            <a:ext cx="591840" cy="647640"/>
          </a:xfrm>
          <a:prstGeom prst="rect">
            <a:avLst/>
          </a:prstGeom>
          <a:ln w="0">
            <a:noFill/>
          </a:ln>
        </p:spPr>
      </p:pic>
      <p:grpSp>
        <p:nvGrpSpPr>
          <p:cNvPr id="125" name=""/>
          <p:cNvGrpSpPr/>
          <p:nvPr/>
        </p:nvGrpSpPr>
        <p:grpSpPr>
          <a:xfrm>
            <a:off x="5543280" y="1628640"/>
            <a:ext cx="1994400" cy="1822320"/>
            <a:chOff x="5543280" y="1628640"/>
            <a:chExt cx="1994400" cy="1822320"/>
          </a:xfrm>
        </p:grpSpPr>
        <p:graphicFrame>
          <p:nvGraphicFramePr>
            <p:cNvPr id="126" name=""/>
            <p:cNvGraphicFramePr/>
            <p:nvPr/>
          </p:nvGraphicFramePr>
          <p:xfrm>
            <a:off x="5711400" y="1628640"/>
            <a:ext cx="927000" cy="1297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11400" y="1628640"/>
                      <a:ext cx="927000" cy="129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8" name=""/>
            <p:cNvSpPr/>
            <p:nvPr/>
          </p:nvSpPr>
          <p:spPr>
            <a:xfrm>
              <a:off x="5543280" y="308268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ffffff"/>
                  </a:solidFill>
                  <a:latin typeface="Tahoma"/>
                </a:rPr>
                <a:t>CC - Chat Serv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14400" y="594360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ffff00"/>
                </a:solidFill>
                <a:latin typeface="Tahoma"/>
              </a:rPr>
              <a:t>Bot autopropagation infection schem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687760" y="692280"/>
          <a:ext cx="927000" cy="129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87760" y="692280"/>
                    <a:ext cx="927000" cy="12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756000" y="260280"/>
            <a:ext cx="23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Tahoma"/>
              </a:rPr>
              <a:t>Distribution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9"/>
          <a:stretch/>
        </p:blipFill>
        <p:spPr>
          <a:xfrm>
            <a:off x="539640" y="3068640"/>
            <a:ext cx="592200" cy="64764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659520" y="4221000"/>
            <a:ext cx="813240" cy="955080"/>
            <a:chOff x="659520" y="4221000"/>
            <a:chExt cx="813240" cy="955080"/>
          </a:xfrm>
        </p:grpSpPr>
        <p:pic>
          <p:nvPicPr>
            <p:cNvPr id="135" name="" descr=""/>
            <p:cNvPicPr/>
            <p:nvPr/>
          </p:nvPicPr>
          <p:blipFill>
            <a:blip r:embed="rId10"/>
            <a:stretch/>
          </p:blipFill>
          <p:spPr>
            <a:xfrm>
              <a:off x="900000" y="4221000"/>
              <a:ext cx="289080" cy="193680"/>
            </a:xfrm>
            <a:prstGeom prst="rect">
              <a:avLst/>
            </a:prstGeom>
            <a:ln w="34920">
              <a:solidFill>
                <a:srgbClr val="ff0000"/>
              </a:solidFill>
              <a:miter/>
            </a:ln>
          </p:spPr>
        </p:pic>
        <p:sp>
          <p:nvSpPr>
            <p:cNvPr id="136" name=""/>
            <p:cNvSpPr/>
            <p:nvPr/>
          </p:nvSpPr>
          <p:spPr>
            <a:xfrm>
              <a:off x="659520" y="486900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ffffff"/>
                  </a:solidFill>
                  <a:latin typeface="Tahoma"/>
                </a:rPr>
                <a:t>Zombi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5431680" y="4132440"/>
            <a:ext cx="363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Tahoma"/>
              </a:rPr>
              <a:t>1. Are you vulnerable for Win X problem 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15560" y="43657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Tahoma"/>
              </a:rPr>
              <a:t>2. Yes / N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04040" y="4581360"/>
            <a:ext cx="30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Tahoma"/>
              </a:rPr>
              <a:t>3. If Yes =&gt; send malware to inf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4797360"/>
            <a:ext cx="320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Tahoma"/>
              </a:rPr>
              <a:t>4. After installation =&gt; connect to C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53640" y="5013360"/>
            <a:ext cx="373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Tahoma"/>
              </a:rPr>
              <a:t>5. Master command =&gt; download / upd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47880" y="5229360"/>
            <a:ext cx="335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Tahoma"/>
              </a:rPr>
              <a:t>6. Request download from dist.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357200" y="3836880"/>
            <a:ext cx="3070440" cy="1416240"/>
            <a:chOff x="1357200" y="3836880"/>
            <a:chExt cx="3070440" cy="1416240"/>
          </a:xfrm>
        </p:grpSpPr>
        <p:sp>
          <p:nvSpPr>
            <p:cNvPr id="144" name=""/>
            <p:cNvSpPr/>
            <p:nvPr/>
          </p:nvSpPr>
          <p:spPr>
            <a:xfrm>
              <a:off x="1357200" y="3836880"/>
              <a:ext cx="3070440" cy="1416240"/>
            </a:xfrm>
            <a:custGeom>
              <a:avLst/>
              <a:gdLst/>
              <a:ahLst/>
              <a:rect l="l" t="t" r="r" b="b"/>
              <a:pathLst>
                <a:path w="1934" h="892">
                  <a:moveTo>
                    <a:pt x="1934" y="892"/>
                  </a:moveTo>
                  <a:cubicBezTo>
                    <a:pt x="1846" y="753"/>
                    <a:pt x="1729" y="114"/>
                    <a:pt x="1407" y="57"/>
                  </a:cubicBezTo>
                  <a:cubicBezTo>
                    <a:pt x="1085" y="0"/>
                    <a:pt x="293" y="446"/>
                    <a:pt x="0" y="548"/>
                  </a:cubicBezTo>
                </a:path>
              </a:pathLst>
            </a:custGeom>
            <a:noFill/>
            <a:ln w="34920">
              <a:solidFill>
                <a:srgbClr val="ffff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02920" y="3860640"/>
              <a:ext cx="267480" cy="2764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200" spc="-1" strike="noStrike">
                  <a:solidFill>
                    <a:srgbClr val="1c1c1c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940040" y="4941720"/>
            <a:ext cx="2290680" cy="459000"/>
            <a:chOff x="1940040" y="4941720"/>
            <a:chExt cx="2290680" cy="459000"/>
          </a:xfrm>
        </p:grpSpPr>
        <p:sp>
          <p:nvSpPr>
            <p:cNvPr id="147" name=""/>
            <p:cNvSpPr/>
            <p:nvPr/>
          </p:nvSpPr>
          <p:spPr>
            <a:xfrm>
              <a:off x="1940040" y="5011560"/>
              <a:ext cx="2290680" cy="389160"/>
            </a:xfrm>
            <a:custGeom>
              <a:avLst/>
              <a:gdLst/>
              <a:ahLst/>
              <a:rect l="l" t="t" r="r" b="b"/>
              <a:pathLst>
                <a:path w="1443" h="245">
                  <a:moveTo>
                    <a:pt x="1443" y="29"/>
                  </a:moveTo>
                  <a:cubicBezTo>
                    <a:pt x="1353" y="28"/>
                    <a:pt x="1110" y="0"/>
                    <a:pt x="903" y="23"/>
                  </a:cubicBezTo>
                  <a:cubicBezTo>
                    <a:pt x="696" y="46"/>
                    <a:pt x="350" y="132"/>
                    <a:pt x="200" y="169"/>
                  </a:cubicBezTo>
                  <a:cubicBezTo>
                    <a:pt x="50" y="206"/>
                    <a:pt x="42" y="229"/>
                    <a:pt x="0" y="245"/>
                  </a:cubicBezTo>
                </a:path>
              </a:pathLst>
            </a:custGeom>
            <a:noFill/>
            <a:ln w="34920">
              <a:solidFill>
                <a:srgbClr val="ffff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82480" y="4941720"/>
              <a:ext cx="267480" cy="2764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200" spc="-1" strike="noStrike">
                  <a:solidFill>
                    <a:srgbClr val="1c1c1c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2016000" y="4795920"/>
            <a:ext cx="2146320" cy="434880"/>
            <a:chOff x="2016000" y="4795920"/>
            <a:chExt cx="2146320" cy="434880"/>
          </a:xfrm>
        </p:grpSpPr>
        <p:sp>
          <p:nvSpPr>
            <p:cNvPr id="150" name=""/>
            <p:cNvSpPr/>
            <p:nvPr/>
          </p:nvSpPr>
          <p:spPr>
            <a:xfrm>
              <a:off x="2016000" y="4795920"/>
              <a:ext cx="2146320" cy="434880"/>
            </a:xfrm>
            <a:custGeom>
              <a:avLst/>
              <a:gdLst/>
              <a:ahLst/>
              <a:rect l="l" t="t" r="r" b="b"/>
              <a:pathLst>
                <a:path w="1352" h="274">
                  <a:moveTo>
                    <a:pt x="1352" y="117"/>
                  </a:moveTo>
                  <a:cubicBezTo>
                    <a:pt x="1283" y="102"/>
                    <a:pt x="1171" y="0"/>
                    <a:pt x="946" y="26"/>
                  </a:cubicBezTo>
                  <a:cubicBezTo>
                    <a:pt x="721" y="52"/>
                    <a:pt x="197" y="222"/>
                    <a:pt x="0" y="274"/>
                  </a:cubicBezTo>
                </a:path>
              </a:pathLst>
            </a:custGeom>
            <a:noFill/>
            <a:ln w="34920">
              <a:solidFill>
                <a:srgbClr val="ff0000"/>
              </a:solidFill>
              <a:round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706120" y="4797360"/>
              <a:ext cx="267480" cy="2764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200" spc="-1" strike="noStrike">
                  <a:solidFill>
                    <a:srgbClr val="1c1c1c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260360" y="3606840"/>
            <a:ext cx="3191040" cy="1393920"/>
            <a:chOff x="1260360" y="3606840"/>
            <a:chExt cx="3191040" cy="1393920"/>
          </a:xfrm>
        </p:grpSpPr>
        <p:sp>
          <p:nvSpPr>
            <p:cNvPr id="153" name=""/>
            <p:cNvSpPr/>
            <p:nvPr/>
          </p:nvSpPr>
          <p:spPr>
            <a:xfrm>
              <a:off x="1260360" y="3651120"/>
              <a:ext cx="3191040" cy="1349640"/>
            </a:xfrm>
            <a:custGeom>
              <a:avLst/>
              <a:gdLst/>
              <a:ahLst/>
              <a:rect l="l" t="t" r="r" b="b"/>
              <a:pathLst>
                <a:path w="2010" h="850">
                  <a:moveTo>
                    <a:pt x="2010" y="850"/>
                  </a:moveTo>
                  <a:cubicBezTo>
                    <a:pt x="1927" y="715"/>
                    <a:pt x="1845" y="80"/>
                    <a:pt x="1510" y="40"/>
                  </a:cubicBezTo>
                  <a:cubicBezTo>
                    <a:pt x="1175" y="0"/>
                    <a:pt x="315" y="491"/>
                    <a:pt x="0" y="610"/>
                  </a:cubicBezTo>
                </a:path>
              </a:pathLst>
            </a:custGeom>
            <a:noFill/>
            <a:ln w="34920">
              <a:solidFill>
                <a:srgbClr val="00ff00"/>
              </a:solidFill>
              <a:round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569760" y="3606840"/>
              <a:ext cx="267480" cy="2764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200" spc="-1" strike="noStrike">
                  <a:solidFill>
                    <a:srgbClr val="1c1c1c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270080" y="3459240"/>
            <a:ext cx="3268440" cy="1522440"/>
            <a:chOff x="1270080" y="3459240"/>
            <a:chExt cx="3268440" cy="1522440"/>
          </a:xfrm>
        </p:grpSpPr>
        <p:sp>
          <p:nvSpPr>
            <p:cNvPr id="156" name=""/>
            <p:cNvSpPr/>
            <p:nvPr/>
          </p:nvSpPr>
          <p:spPr>
            <a:xfrm>
              <a:off x="1270080" y="3459240"/>
              <a:ext cx="3268440" cy="1522440"/>
            </a:xfrm>
            <a:custGeom>
              <a:avLst/>
              <a:gdLst/>
              <a:ahLst/>
              <a:rect l="l" t="t" r="r" b="b"/>
              <a:pathLst>
                <a:path w="2059" h="959">
                  <a:moveTo>
                    <a:pt x="2059" y="959"/>
                  </a:moveTo>
                  <a:cubicBezTo>
                    <a:pt x="1989" y="808"/>
                    <a:pt x="1980" y="104"/>
                    <a:pt x="1637" y="52"/>
                  </a:cubicBezTo>
                  <a:cubicBezTo>
                    <a:pt x="1294" y="0"/>
                    <a:pt x="341" y="522"/>
                    <a:pt x="0" y="646"/>
                  </a:cubicBezTo>
                </a:path>
              </a:pathLst>
            </a:custGeom>
            <a:noFill/>
            <a:ln w="34920">
              <a:solidFill>
                <a:srgbClr val="00ffff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01400" y="3573360"/>
              <a:ext cx="267480" cy="27648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200" spc="-1" strike="noStrike">
                  <a:solidFill>
                    <a:srgbClr val="1c1c1c"/>
                  </a:solidFill>
                  <a:latin typeface="Tahoma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1135080" y="2079720"/>
            <a:ext cx="2367000" cy="2039760"/>
            <a:chOff x="1135080" y="2079720"/>
            <a:chExt cx="2367000" cy="2039760"/>
          </a:xfrm>
        </p:grpSpPr>
        <p:sp>
          <p:nvSpPr>
            <p:cNvPr id="159" name=""/>
            <p:cNvSpPr/>
            <p:nvPr/>
          </p:nvSpPr>
          <p:spPr>
            <a:xfrm>
              <a:off x="1135080" y="2079720"/>
              <a:ext cx="2367000" cy="2039760"/>
            </a:xfrm>
            <a:custGeom>
              <a:avLst/>
              <a:gdLst/>
              <a:ahLst/>
              <a:rect l="l" t="t" r="r" b="b"/>
              <a:pathLst>
                <a:path w="1491" h="1285">
                  <a:moveTo>
                    <a:pt x="1304" y="0"/>
                  </a:moveTo>
                  <a:cubicBezTo>
                    <a:pt x="1299" y="110"/>
                    <a:pt x="1491" y="447"/>
                    <a:pt x="1274" y="661"/>
                  </a:cubicBezTo>
                  <a:cubicBezTo>
                    <a:pt x="1057" y="875"/>
                    <a:pt x="265" y="1155"/>
                    <a:pt x="0" y="1285"/>
                  </a:cubicBezTo>
                </a:path>
              </a:pathLst>
            </a:custGeom>
            <a:noFill/>
            <a:ln w="34920">
              <a:solidFill>
                <a:srgbClr val="00ffff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993400" y="2852640"/>
              <a:ext cx="267480" cy="27648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200" spc="-1" strike="noStrike">
                  <a:solidFill>
                    <a:srgbClr val="1c1c1c"/>
                  </a:solidFill>
                  <a:latin typeface="Tahoma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5464440" y="5445000"/>
            <a:ext cx="26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Tahoma"/>
              </a:rPr>
              <a:t>7. Sends requested downlo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251000" y="2771640"/>
            <a:ext cx="4533840" cy="1627200"/>
            <a:chOff x="1251000" y="2771640"/>
            <a:chExt cx="4533840" cy="1627200"/>
          </a:xfrm>
        </p:grpSpPr>
        <p:sp>
          <p:nvSpPr>
            <p:cNvPr id="163" name=""/>
            <p:cNvSpPr/>
            <p:nvPr/>
          </p:nvSpPr>
          <p:spPr>
            <a:xfrm>
              <a:off x="1251000" y="2771640"/>
              <a:ext cx="4533840" cy="1627200"/>
            </a:xfrm>
            <a:custGeom>
              <a:avLst/>
              <a:gdLst/>
              <a:ahLst/>
              <a:rect l="l" t="t" r="r" b="b"/>
              <a:pathLst>
                <a:path w="2856" h="1025">
                  <a:moveTo>
                    <a:pt x="2856" y="0"/>
                  </a:moveTo>
                  <a:cubicBezTo>
                    <a:pt x="2628" y="64"/>
                    <a:pt x="1963" y="222"/>
                    <a:pt x="1487" y="393"/>
                  </a:cubicBezTo>
                  <a:cubicBezTo>
                    <a:pt x="1011" y="564"/>
                    <a:pt x="310" y="893"/>
                    <a:pt x="0" y="1025"/>
                  </a:cubicBezTo>
                </a:path>
              </a:pathLst>
            </a:custGeom>
            <a:noFill/>
            <a:ln w="34920">
              <a:solidFill>
                <a:srgbClr val="00ff00"/>
              </a:solidFill>
              <a:round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73040" y="3141720"/>
              <a:ext cx="267480" cy="2764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200" spc="-1" strike="noStrike">
                  <a:solidFill>
                    <a:srgbClr val="1c1c1c"/>
                  </a:solidFill>
                  <a:latin typeface="Tahoma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193760" y="2039760"/>
            <a:ext cx="2499120" cy="2146320"/>
            <a:chOff x="1193760" y="2039760"/>
            <a:chExt cx="2499120" cy="2146320"/>
          </a:xfrm>
        </p:grpSpPr>
        <p:sp>
          <p:nvSpPr>
            <p:cNvPr id="166" name=""/>
            <p:cNvSpPr/>
            <p:nvPr/>
          </p:nvSpPr>
          <p:spPr>
            <a:xfrm>
              <a:off x="1193760" y="2039760"/>
              <a:ext cx="2378160" cy="2146320"/>
            </a:xfrm>
            <a:custGeom>
              <a:avLst/>
              <a:gdLst/>
              <a:ahLst/>
              <a:rect l="l" t="t" r="r" b="b"/>
              <a:pathLst>
                <a:path w="1498" h="1352">
                  <a:moveTo>
                    <a:pt x="1382" y="0"/>
                  </a:moveTo>
                  <a:cubicBezTo>
                    <a:pt x="1391" y="105"/>
                    <a:pt x="1498" y="482"/>
                    <a:pt x="1449" y="625"/>
                  </a:cubicBezTo>
                  <a:cubicBezTo>
                    <a:pt x="1400" y="768"/>
                    <a:pt x="1332" y="734"/>
                    <a:pt x="1091" y="855"/>
                  </a:cubicBezTo>
                  <a:cubicBezTo>
                    <a:pt x="850" y="976"/>
                    <a:pt x="227" y="1249"/>
                    <a:pt x="0" y="1352"/>
                  </a:cubicBezTo>
                </a:path>
              </a:pathLst>
            </a:custGeom>
            <a:noFill/>
            <a:ln w="34920">
              <a:solidFill>
                <a:srgbClr val="00ff00"/>
              </a:solidFill>
              <a:round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25400" y="2708280"/>
              <a:ext cx="267480" cy="2764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200" spc="-1" strike="noStrike">
                  <a:solidFill>
                    <a:srgbClr val="1c1c1c"/>
                  </a:solidFill>
                  <a:latin typeface="Tahoma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270080" y="2617920"/>
            <a:ext cx="4486320" cy="1627200"/>
            <a:chOff x="1270080" y="2617920"/>
            <a:chExt cx="4486320" cy="1627200"/>
          </a:xfrm>
        </p:grpSpPr>
        <p:sp>
          <p:nvSpPr>
            <p:cNvPr id="169" name=""/>
            <p:cNvSpPr/>
            <p:nvPr/>
          </p:nvSpPr>
          <p:spPr>
            <a:xfrm>
              <a:off x="1270080" y="2617920"/>
              <a:ext cx="4486320" cy="1627200"/>
            </a:xfrm>
            <a:custGeom>
              <a:avLst/>
              <a:gdLst/>
              <a:ahLst/>
              <a:rect l="l" t="t" r="r" b="b"/>
              <a:pathLst>
                <a:path w="2826" h="1025">
                  <a:moveTo>
                    <a:pt x="2826" y="0"/>
                  </a:moveTo>
                  <a:cubicBezTo>
                    <a:pt x="2584" y="74"/>
                    <a:pt x="1848" y="272"/>
                    <a:pt x="1377" y="443"/>
                  </a:cubicBezTo>
                  <a:cubicBezTo>
                    <a:pt x="906" y="614"/>
                    <a:pt x="287" y="904"/>
                    <a:pt x="0" y="1025"/>
                  </a:cubicBezTo>
                </a:path>
              </a:pathLst>
            </a:custGeom>
            <a:noFill/>
            <a:ln w="34920">
              <a:solidFill>
                <a:srgbClr val="ffff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22120" y="2637000"/>
              <a:ext cx="267480" cy="2764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200" spc="-1" strike="noStrike">
                  <a:solidFill>
                    <a:srgbClr val="1c1c1c"/>
                  </a:solidFill>
                  <a:latin typeface="Tahom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970800" y="4965840"/>
            <a:ext cx="813240" cy="1002240"/>
            <a:chOff x="3970800" y="4965840"/>
            <a:chExt cx="813240" cy="1002240"/>
          </a:xfrm>
        </p:grpSpPr>
        <p:pic>
          <p:nvPicPr>
            <p:cNvPr id="172" name="" descr=""/>
            <p:cNvPicPr/>
            <p:nvPr/>
          </p:nvPicPr>
          <p:blipFill>
            <a:blip r:embed="rId11"/>
            <a:stretch/>
          </p:blipFill>
          <p:spPr>
            <a:xfrm>
              <a:off x="4140360" y="4965840"/>
              <a:ext cx="59184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12"/>
            <a:stretch/>
          </p:blipFill>
          <p:spPr>
            <a:xfrm>
              <a:off x="4230720" y="5018040"/>
              <a:ext cx="288720" cy="193680"/>
            </a:xfrm>
            <a:prstGeom prst="rect">
              <a:avLst/>
            </a:prstGeom>
            <a:ln w="34920">
              <a:solidFill>
                <a:srgbClr val="ff0000"/>
              </a:solidFill>
              <a:miter/>
            </a:ln>
          </p:spPr>
        </p:pic>
        <p:sp>
          <p:nvSpPr>
            <p:cNvPr id="174" name=""/>
            <p:cNvSpPr/>
            <p:nvPr/>
          </p:nvSpPr>
          <p:spPr>
            <a:xfrm>
              <a:off x="3970800" y="566100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ffffff"/>
                  </a:solidFill>
                  <a:latin typeface="Tahoma"/>
                </a:rPr>
                <a:t>Zombi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Botnets – Spreading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5715000" cy="27432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429000" y="3733920"/>
            <a:ext cx="57150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Botnets - Infection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28600" y="2147760"/>
            <a:ext cx="4114800" cy="33624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572000" y="2147760"/>
            <a:ext cx="41148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Botnets – 0day Infections</a:t>
            </a:r>
            <a:br>
              <a:rPr sz="1200"/>
            </a:br>
            <a:r>
              <a:rPr b="1" lang="en-US" sz="1200" spc="-1" strike="noStrike">
                <a:solidFill>
                  <a:srgbClr val="e5e5ff"/>
                </a:solidFill>
                <a:latin typeface="Arial"/>
              </a:rPr>
              <a:t>Monthly stats</a:t>
            </a:r>
            <a:endParaRPr b="1" lang="en-US" sz="1200" spc="-1" strike="noStrike">
              <a:solidFill>
                <a:srgbClr val="e5e5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04920" y="1295280"/>
          <a:ext cx="8458200" cy="5187960"/>
        </p:xfrm>
        <a:graphic>
          <a:graphicData uri="http://schemas.openxmlformats.org/drawingml/2006/table">
            <a:tbl>
              <a:tblPr/>
              <a:tblGrid>
                <a:gridCol w="2530440"/>
                <a:gridCol w="2070000"/>
                <a:gridCol w="1982880"/>
                <a:gridCol w="18748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ndor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ect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spersk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35044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890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9.10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-Secur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55145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6942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.96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tiVir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3050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890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.81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ma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21074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890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.20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32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17093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890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7.95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-Prot6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6289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07326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7.05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Defender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9200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890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.33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Web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7897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30281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.14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G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87692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890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.05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-Pro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5078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890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.66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cAfe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37799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890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2.83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1090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90116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.97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xir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5666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890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.59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rusBuster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55933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890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.54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BA32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16066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890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4.97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nd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6679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890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.15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He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803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730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41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m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011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890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7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8T18:51:44Z</dcterms:created>
  <dc:creator>Rochefort</dc:creator>
  <dc:description/>
  <dc:language>en-US</dc:language>
  <cp:lastModifiedBy>User</cp:lastModifiedBy>
  <dcterms:modified xsi:type="dcterms:W3CDTF">2007-10-22T11:51:40Z</dcterms:modified>
  <cp:revision>59</cp:revision>
  <dc:subject/>
  <dc:title>The Shadowserver Foundation</dc:title>
</cp:coreProperties>
</file>